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1DB4-C40D-4D63-A198-DADB814B5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../slides/slide7.xml"/><Relationship Id="rId5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../slides/slide9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lső lépések az Edutainment irányá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Fekete Zsom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ogyan léphetünk ki a társadalom – politika – és a gazdaság ördögi köréből? Véleményünk szerint a játékvilág megismerése lehet a kul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együk komolyabban a már meglévő játékokat! Elemezzük őket abból a szempontból mit nyújthatnak számunkra, hogyan lehetnek segítségünkre az oktatás támogatásáb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ásfelől, ha már rendelkezünk a kellő tudással, készítsünk igazán jó játékok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következő diákon olyan játékokat mutatok be, amelyeket méltatlanul keveset használnak az oktatásban, pedig tapasztalatból tudjuk, hogy egyik-másik alkotásnak bizony ott lenne a helye az iskolában az „ajánlott”, vagy a „felhasznált játékok” közöt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Final Fantasy sorozat a japán Square kiadó jóvoltából járta be a világot. Részeinek száma meghaladja a tízet, és töretlen népszerűségnek örvend. A Final Fantasy oktatási funkcióját tekintve nem teljesen egyedi játék, mivel elsősorban nyelveket tanultunk belőle, más szerepjátékokkal és kalandjátékokkal együtt nyelvi szókincs-bővítéshez ajánlju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Microsoft Flight Simulator című sorozata sem egyedi produktumként áll előttünk, hanem a repülőgép szimulátorok népes táborát gazdagítja. Mi – a repülőgép-irányítási ismereteken túl – elsősorban földrajz-oktatáshoz ajánljuk, mivel az egyes küldetések során rengeteg egyre realisztikusabb földrajzi hellyel ismerkedhetünk meg e játékműfaj segítségé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3DO Heroes of Might and Magic sorozata egy körökre osztott stratégia, amely műfaj leginkább kibővített sakk-játszmákhoz hasonlítható. Ezt a szoftvert a benne előforduló mitológiai alakok mennyisége teszi igazán különlegessé. Első-osztályú szórakozás mindazoknak, akik gimnáziumi irodalomórák előtt álln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Sierra által kiadott Incredible Machines az oktatásban felhasználható játékok közül a kedvencünk: gyakorlatilag a gimnáziumi fizika bizonyos fejezeteit tesztelhetjük általa igen élvezetes formában! Minden fizikatanár számára melegen ajánlot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Political Machine a Stardock Entertainment által fejlesztett stratégiai játék, amely a játékosokat az amerikai elnökválasztási kampány világába kalauzolja el. Kiválóan alkalmas politológiai tanulmányok kiegészítéséhez, esetleg színesítéséhe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lső Sim City fejlesztését 1985-ben kezdte meg Will Wright, aki azóta egyben megteremtette a szimulációs játékok műfaját. A Sim-sorozat különféle rendszerek működését mutatja be hihetetlen precizitással, a hitelességre messzemenőkig törekedve, mégis a játszhatóság élményét fenntartva. A Sim-sorozatot már viszontláthatjuk olykor az iskolai oktatási gyakorlatban i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America’s Army az USA hadserege által fejlesztett FPS játék, amely realisztikusan kívánja bemutatni az amerikai hadsereg „munkáját”. Nos FPS-eket régóta alkalmaznak a katonai kiképzések során, de ez az első szabadon felhasználható változat, amelyet mi is bármikor kipróbálhat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Theme Park a zseniális játék-designer Peter Molyneux munkája, aki több műfajteremtő alkotást is létrehozott. A „Sim” jelzőt a játék későbbi változatához az Electronic Arts tette hozzá, jelezvén, hogy az alkotás nagyszerűen illeszkedik a Will Wright neve által fémjelzet sorozathoz. A Theme Park különlegessége, hogy az egyetemi közgazdaságtan órákon is előszeretettel alkalmazzák – a benne bemutatott speciális gazdálkodási logikák miat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korábbi játékok megismerése azonban – bár szükséges feltétel - nem elegendő az új tartalmak létrehozásához. Alapvető szakismeretek nélkül nem leszünk képesek igazán hatékony edutainmentet létrehozni. Ezért fontosnak érezzük a játéktudományos képzés megjelenését Magyarország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iről is szól a játéktudomány? Többek közt fontos kutatási területei a videójáték-történelem, videojátékok meghatározása és osztályzása, a felhasználói élmény, és a játékos motiváció elemzése, a virtuális környezetek ergonómiai kialakításának kérdései, játék-design és algoritmus készíté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edutainment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koncepció lényege a szórakozva, játszva tanulás. A játékos tanulás természetesen nem új keletű jelenség – mondhatnánk: „már az ókori görögök is ismerték”. Kiváló könyvében  Chris Crawford</a:t>
            </a:r>
            <a:r>
              <a:rPr b="0" lang="hu-HU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[1]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játék-designer a játékok elemzésekor kiemeli, hogy már az állatvilágban is meghatározó szerepet kapnak az élet különböző kihívásaira felkészítő játékok. Funkcionális megközelítésben a görög Olympián szereplő versenyszámok a harcmezőn illetve a mindennapi életben szükséges készségek, képességek gyakorlására, illetve egymással történő összemérésére szolgált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dutainment fogalma nem az ókorban, hanem jóval később, a professzionális oktatás kialakulásával született meg, egy olyan környezetben, amelyben az oktatás szükségszerűen nagymennyiségű absztrakt tartalom átadására specializálódott. Ehhez képest az edutainment 1) a tanórákba visszacsempészett játékokat, illetve 2) az új médiumok – tv, rádió, videó, számítógép – segítségével készített élmény-centrikus oktatóanyagokat jelentet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hu-H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[1]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Chris Crawford „on Game Design” - New Riders Publishing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isszatérve korábbi kérdésünkhöz, ha edutainment tartalmakat szeretnénk a közeljövőben, mindenképp az agyak tágításával kell kezdenünk keresztes hadjáratunk. Mindaddig, amíg a társadalom és a releváns szakemberek fél-információk, sztereotípiák alapján ítélik meg a számítógépes játékokat, vajmi kevés esélyünk van új színt adnunk a számítógépes tanulásna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a vázolni szeretnénk – nem teljesen leíró módon, hanem hipotetikusan, ideáltípusok felhasználásával – az edutainment jelenség változásait, azt mondhatjuk, hogy 1) hagyományos értelemben a játék, a szórakozás bizonyos típusai rendelkeztek komoly, az életre felkészítő oktató, nevelő funkciókkal. Ezek elsősorban kihívások, versenyek, másfelől különféle népi rigmusok, és rítusok alakjában jelentek meg. 2) A modern korban az edutainment tartalmak a legtöbbször száraz, absztrakt tudásanyagok, illetve a formális oktatási folyamat „színesítésére”, illusztrálására szolgálnak, eszközeik ehhez a versenyek mellett a játékok és illusztrációk. 3) Végül fel kell hívnunk a figyelmet az edutainment fogalom egy új jelentésére, amely az utóbbi évtized termékeként jelent meg: ez az oktató célú, illetve oktatási célra is alkalmazható számítógépes és videó-játékokat jelöli. Mi a továbbiakban ezzel a jelentéssel foglalkozun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dutainment koncepciót sokan üdvözölték már lelkesen. A Microsoft és az MIT közös programja, a Games2Teach project már a kilencvenes évek második fele óta kutatja a játékokban rejlő oktatási potenciált. A projekt leghasznosabb eredményei mindazonáltal konferenciákban és konferencia-előadásokban merülnek ki – a forradalom elmaradt. Még mindig nincsenek olyan tartalmak, amelyek a XXI. század edutainment koncepcióját a realitás talajához közelebb hozhatnák. Vajon miért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a az edutainment tartalmi deficitének okait keressük, nem tekinthetünk el attól a táptalajtól, amelyen a koncepció létrejött: 1) egyrészt az e-learning fejlesztések, 2) másrészt a videó-játékokkal kapcsolatos tapasztalatok irányából táplálkozott az ötl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ár az e-learning gondolata sok helyen összeolvadt a különféle rugalmas-, illetve távoktatási elképzelésekkel, eszközeiben mégis sok tekintetben párhuzamosan fejlődött a játékokkal. (Ábra: Fekete Zsombor „Implementing Video Games in e-learning” – MicroCad Conference 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IL”: A számítógépes szimulációk gyakorta használták a játékokban kifejlesztett programozási eljárásokat, illetve fizikai motorok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ML”: A különféle multimédia CD-ROM-ok és a számítógépes-játékok nemcsak a polcukat osztják meg egymással a könyvesboltokban, de előfordul, hogy a multimédia CD-k is tartalmaznak játékokat, vagy éppen a játékokon belül is találhatóak statikusabb, enciklopédikus tartalm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WBL”: A webes e-learning CMS-ek (tartalom-menedzsment rendszerek) ugyan inkább a vállalati intranet struktúrájára hajaznak, mégis több ponton fedezhető fel hasonlóság köztük, és a webes online játékportálok köz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Virtuális Osztályterem alkalmazások elődeinek a MUD-ok (Multi User Dungeonok), utódainak pedig sok tekintetben az MMORPG-k (Massively Multiplayer Online Role Playing Game-ek) tekinthető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fenti párhuzamok ellenére sem mondhatnánk, hogy az e-learning alkalmazások előrébb vitték volna az edutainment koncepció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-learning oldaláról felmerült elvárásokat elemezve meg is érthetjük ezen alkalmazások terméketlenségét. Bár e-learninggel sokan, sokféle motivációval foglalkoznak, kiemelnénk két olyan „víziót”, amelyek az edutainment tartalmak ellen dolgozna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céges világban sikeresen alkalmazott e-learning és tudásmenedzsment rendszereket sokan aposztrofálják „Az e-learningként”. Az ilyen oktatási keretrendszerek általában a gyors információ-elérést illetve hálózatos felépítésű tudásbázisok létrejöttét segítik, ritkán tartalmaznak robosztusabb, időigényesebb interaktív vagy multimédia elemeket, didaktikusabb jellegű anyagok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A hatékonyság bűvöletében is sokan próbálkoznak gyorsabb, kényelmesebb, olcsóbb e-learning anyagok készítésével. Míg az erőforrás hatékonyság oldaláról elsősorban a távoktatás szakemberei érvelnek az e-learning mellett, addig a tanulási hatékonyságot (extrém formában) a Mátrix-metafora képviseli leginkább korunkban. Az e-tanulás azonban számos projektben bizonyult kevéssé hatékony megoldásnak, így az e-learning elkötelezett prófétái közül ma már sokan érvelnek a „blended” – kevert oktatás mellett! A játékok a ráfordított idő, és a hasznos tartalom eddig tapasztalt aránya miatt ebben a koncepcióban sem szalonképesek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Mi ezekkel szemben egy olyan víziót írunk le, amely talán földhöz-ragadtabb, ugyanakkor erőteljesebb szemléletváltást követel meg a felhasználóktól, mint az előbbi kettő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A számítógép-felhasználás lassan mindennapjaink részévé válik: a gépeket használjuk munkánkhoz, szórakozásunkhoz, információ-szerzésre, és kommunikációra egyaránt! Itt az ideje annak, hogy a számítógépekre ne bizalmatlanul, esetleg túlzó elvárásokkal tekintsünk, hanem megtalálva helyét életünkben a könyvekhez, a telefonhoz, vagy az írógéphez hasonlóan használjuk a lehető leghatékonyabba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-learning mellett a játékgyártók oldaláról is gyakorta felmerül az oktatójáték ötlete. Azonban a játékokkal kapcsolatban több kétely is megfogalmazódott. Az első számú, - amelynek jogosságát magunk sem vitatjuk – hogy jelen állapotukban legalábbis alacsony hatásfokkal képesek oktatni. Ahhoz, hogy hatékonyságukat növelni tudjuk, ismernünk kell működésüket, szabályaikat, ismernünk kell a játékok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a azt kérdeznénk egy művelt hallgatóságtól, hogy tudják-e mit jelent az a szó, hogy „játék”, minden bizonnyal igennel felelnének. Ha azonban a játékok definíciójára lennénk kíváncsiak, csupán néhány – Huizingán</a:t>
            </a:r>
            <a:r>
              <a:rPr b="0" lang="hu-HU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[1]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, Caillois</a:t>
            </a:r>
            <a:r>
              <a:rPr b="0" lang="hu-H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[2]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-n, esetleg Chris Crawfordon túli – olvasó tudna épkézláb leírással szolgáln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játékokkal kapcsolatban az a legnagyobb probléma, hogy bár jóformán mindenki ismeri a játékok tömkelegét, sokan mégsem tudják mit is jelent a játék fogalma, miért is szeretünk játszani, illetve hogy mi kell egy jó játékhoz. Ennek megfelelően a legtöbb edutainment próbálkozás legnagyobb hibája a játék elolvadása a tartalom mögöt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hu-HU" sz="1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[1]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Johan Huizinga: „Homo Ludens: A Study of the Play Element in Culture” – Beacon Press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[2] Roger Calliois: „Les jeux et les hommes” – 1958 Librairie Gallimard 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játékokkal kapcsolatban azonban van még számtalan bizonytalan tényező, s ezek közül néhány már társadalmi szinten is gondot okoz! Vegyük például a számítógépes játékok megjelenését a médiában. Gyakorta hallhatjuk: „Mennyire károsak a videó-játékok?” illetve „Vajon fejlesztenek-e a videó-játékok?” Ezek a ma már hagyományosnak tekinthető kérdések egyetlen fontos tényről feledkeznek meg: a játék-világ heterogenitásáról. Akik általában a  „fejlesztő játékok” mellett érvelve védik a mundér becsületét ugyanúgy sztereotípiákat sugallnak, mint akik a „számítógépes játékok erőszakosságát” emlegetve protestáln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probléma tehát valahol az agyakban kezdődik, azonban nem itt ér véget! Edutainmentet szeretnénk, és ebben jelenleg – leegyszerűsítve – három érdekelt szereplőt találunk: a társadalmat, a politikát és a gazdaság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társadalom sztereotípiák közt őrlődik, viszonylag új jelenségről lévén szó az extrém tapasztalatokból von le következtetéseket, melyre a média alaposan rá is erősí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politika ma már nem nevezhető a haladás hajtómotorjának, amennyiben csak annyit vállal be, amennyire a szavazóbázisa felhatalmazza. Intézgeti ugyan ügyeinket, de gondosan ügyel arra, hogy csak szavazatokra váltható programokat hirdessen meg. Bár a mindenkori kormányzat kezében ott van a lehetőség, hogy sokszor leszerepelt e-learning alkalmazások helyett edutainment tartalmak készítését támogassa, nem képes saját impotenciáját meghaladni. – Melyik politikus vállalná fel, hogy játékfejlesztésre költi az adófizetők pénzét?</a:t>
            </a:r>
            <a:r>
              <a:rPr b="0" lang="hu-HU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[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égül a játékgyártás és az e-learning ipar rövid elemzésébe bocsátkoznék. A professzionális játékipar sokak által emlegetett tragédiája, hogy egy cég csupán akkor tud a piacon megjelenni, ha biztosra megy: három-négy filmadaptáció, esetleg sikerjáték-klón közt kísérelhet meg egy-egy új ötletet, amelyek azonban ritkán kecsegtetnek átütő sikerrel. Mivel a mai játékok komoly dollármilliókba kerülnek, kevesen engedhetik meg maguknak, hogy egy mégoly professzionális edutainment játékot fejlesszenek saját szakállukra. Az e-learning ipar ezzel szemben jól kialakult pályázati rutinnal gyűjtögeti a „nagy dobáshoz kevés” támogatási forrásokat. Igen sok olyan cég van, amely egy-egy megnyert pályázati pénzből elkacérkodik a gondolattal, hogy végre valami „jó dolgot” is csináljon, azután a rideg valóság talaján készítik tovább a negyedéves elszámolásokat, szakmai beszámolókat olykor fiktív projektekrő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ördögi kör lezárásaként ne feledjük, a játékipar sláger-termékei így tulajdonképpen tökéletes táptalajt adnak a társadalom sztereotípiáinak újratermelődéséhez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hu-H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[1]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Tudomásunk szerint 2004 októberéig csupán az amerikai, brit, francia és a kínai kormány fordított nagyobb összeget játékfejlesztés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6936-ED12-427E-95C8-FEF77E57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768A-0C89-4CCE-B013-B6D53EEA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2B35-52A2-4AC1-837E-698D21D3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01E-5B67-4735-A9DB-289DF633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98CB-E2B9-4235-873A-FBCA47C7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7954-E3C7-440A-9DED-7BB364DD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952B-2AAE-4415-95D9-CBAFD461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56ED-8149-49BC-8BAF-EF811351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04ED-38AC-4A78-B724-7238C002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46BF-A426-4AB3-873D-A2A50D77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6134-10BC-43ED-89E0-1F2F9306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A23-FAB0-4D25-8B33-8E0D4AD8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2523-4BBA-4CBC-86BF-5BD7A451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6A04-1F2D-405A-9D2C-82F26468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7A3A-E370-422F-A13F-2FCFB367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CF70-023F-4E46-9180-8FE9A2A8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4159-E8DD-4E1A-A859-948D8665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AC9-D4A8-4219-9FF9-09F84C8E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8FF2-7B84-4407-A7B2-C855F404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30AB-D0F1-4CFF-939D-FE71B183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00B-21B5-45A2-84EA-54D2B835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1949-FCC9-42E3-92EF-AD525F2C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10F-782D-4CDA-BA31-4915DC67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8BF6-C63D-4627-9117-043109D2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A05E-DECD-4969-9A3C-476F5E7414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C6EE-FEAF-4F87-ACF9-DCB3EA6BDF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jab-en@jab-en.net" TargetMode="External"/><Relationship Id="rId2" Type="http://schemas.openxmlformats.org/officeDocument/2006/relationships/hyperlink" Target="http://ludologia.hu/" TargetMode="Externa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First steps towards Edutainmen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kete Zsom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gria Media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2 steps towards Edutain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aking existing games ser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king good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77080" y="63360"/>
            <a:ext cx="1798560" cy="1349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050920" y="1989000"/>
            <a:ext cx="5280120" cy="39610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inal Fantasy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(English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77080" y="63360"/>
            <a:ext cx="1798560" cy="1349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340000" y="2492280"/>
            <a:ext cx="4762440" cy="3419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MS Flight Simulator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(Geography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77080" y="63360"/>
            <a:ext cx="1798560" cy="1349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835280" y="1844640"/>
            <a:ext cx="6107040" cy="45799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eroes of Might and Magic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(Mythology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77080" y="63360"/>
            <a:ext cx="1798560" cy="1349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619280" y="19162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ncredible Machines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(Physics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77080" y="63360"/>
            <a:ext cx="1798560" cy="1349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124000" y="2133720"/>
            <a:ext cx="5577120" cy="41828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olitical Machine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(Political Science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522440" y="1681200"/>
            <a:ext cx="6649920" cy="49878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m City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(Urban studies, sociology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877080" y="115920"/>
            <a:ext cx="18716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merica’s Army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(Military tactics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6121440" cy="4591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877080" y="115920"/>
            <a:ext cx="18716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905800" cy="4429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m Theme Park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(Economy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877080" y="115920"/>
            <a:ext cx="18716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me topics of game-scie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-game gen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experience and gaming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-design an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-erg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14560" y="1700280"/>
            <a:ext cx="3313080" cy="2200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80000" y="1700280"/>
            <a:ext cx="3095640" cy="2233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187280" y="4197240"/>
            <a:ext cx="3168720" cy="2320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508720" y="4191120"/>
            <a:ext cx="31669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ere to begi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2159280" cy="1393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780000" y="501336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443640" y="2349360"/>
            <a:ext cx="2087640" cy="1565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843280" y="1628640"/>
            <a:ext cx="3384360" cy="649440"/>
          </a:xfrm>
          <a:custGeom>
            <a:avLst/>
            <a:gdLst>
              <a:gd name="textAreaLeft" fmla="*/ 0 w 3384360"/>
              <a:gd name="textAreaRight" fmla="*/ 3384720 w 338436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1511" y="12728"/>
                </a:moveTo>
                <a:arcTo wR="-9487" hR="-9487" stAng="10096533" swAng="-10504807"/>
                <a:lnTo>
                  <a:pt x="76" y="12080"/>
                </a:lnTo>
                <a:arcTo wR="10800" hR="10800" stAng="10391726" swAng="10504807"/>
                <a:lnTo>
                  <a:pt x="24018" y="8057"/>
                </a:lnTo>
                <a:lnTo>
                  <a:pt x="21414" y="12025"/>
                </a:lnTo>
                <a:lnTo>
                  <a:pt x="17445" y="9421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7182600">
            <a:off x="5941080" y="4364640"/>
            <a:ext cx="3384360" cy="649440"/>
          </a:xfrm>
          <a:custGeom>
            <a:avLst/>
            <a:gdLst>
              <a:gd name="textAreaLeft" fmla="*/ 0 w 3384360"/>
              <a:gd name="textAreaRight" fmla="*/ 3384720 w 338436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1418" y="10774"/>
                </a:moveTo>
                <a:arcTo wR="-9382" hR="-9382" stAng="-10790474" swAng="-6803153"/>
                <a:lnTo>
                  <a:pt x="6541" y="875"/>
                </a:lnTo>
                <a:arcTo wR="10800" hR="10800" stAng="-6793627" swAng="6803153"/>
                <a:lnTo>
                  <a:pt x="24300" y="10837"/>
                </a:lnTo>
                <a:lnTo>
                  <a:pt x="20882" y="14237"/>
                </a:lnTo>
                <a:lnTo>
                  <a:pt x="17482" y="1081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3507200">
            <a:off x="827280" y="5083560"/>
            <a:ext cx="3384720" cy="649080"/>
          </a:xfrm>
          <a:custGeom>
            <a:avLst/>
            <a:gdLst>
              <a:gd name="textAreaLeft" fmla="*/ 0 w 3384720"/>
              <a:gd name="textAreaRight" fmla="*/ 3385080 w 3384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1418" y="10774"/>
                </a:moveTo>
                <a:arcTo wR="-9382" hR="-9382" stAng="-10790474" swAng="-6803153"/>
                <a:lnTo>
                  <a:pt x="6541" y="875"/>
                </a:lnTo>
                <a:arcTo wR="10800" hR="10800" stAng="-6793627" swAng="6803153"/>
                <a:lnTo>
                  <a:pt x="24300" y="10837"/>
                </a:lnTo>
                <a:lnTo>
                  <a:pt x="20882" y="14237"/>
                </a:lnTo>
                <a:lnTo>
                  <a:pt x="17482" y="1081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635280" y="4869000"/>
            <a:ext cx="2376720" cy="180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227640" y="2205000"/>
            <a:ext cx="2376720" cy="180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64000" y="4941720"/>
            <a:ext cx="2665440" cy="180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56360" y="2205000"/>
            <a:ext cx="2665440" cy="180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1989000"/>
            <a:ext cx="2592360" cy="1944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32000" y="2205000"/>
            <a:ext cx="3888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Thanks for your attention…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kete Zsom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jab-en@jab-en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ludologia.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dutain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1844640"/>
            <a:ext cx="52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ion + Ent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i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55640" y="2565360"/>
          <a:ext cx="7561440" cy="2692440"/>
        </p:xfrm>
        <a:graphic>
          <a:graphicData uri="http://schemas.openxmlformats.org/drawingml/2006/table">
            <a:tbl>
              <a:tblPr/>
              <a:tblGrid>
                <a:gridCol w="2016000"/>
                <a:gridCol w="2521080"/>
                <a:gridCol w="30243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t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ing for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llenges, Competi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izing formal 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lustr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New  conc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learning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?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-Games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?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3583080" cy="3225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60360" y="200988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98320" y="4084560"/>
            <a:ext cx="23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id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... Edutainmen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64000" y="595008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re is no content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E-lear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58920" y="1574640"/>
            <a:ext cx="6697800" cy="5186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06520" y="5734080"/>
            <a:ext cx="20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lace is g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till no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3141720"/>
            <a:ext cx="4465440" cy="3284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E-learning Drea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435640" y="1989000"/>
            <a:ext cx="3057480" cy="4572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116000" y="4508640"/>
            <a:ext cx="3535200" cy="1965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116000" y="1989000"/>
            <a:ext cx="3527280" cy="2357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899640" y="1773360"/>
            <a:ext cx="3816360" cy="4751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1773360"/>
            <a:ext cx="3816360" cy="4751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efine games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ames are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1916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41280" y="23670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h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95440" y="272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wel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16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36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3961080" cy="2970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assic context of video-gam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292720" y="1957320"/>
            <a:ext cx="33847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stitution of Gam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2159280" cy="1393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780000" y="501336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443640" y="2349360"/>
            <a:ext cx="2087640" cy="1565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43280" y="1628640"/>
            <a:ext cx="3384360" cy="649440"/>
          </a:xfrm>
          <a:custGeom>
            <a:avLst/>
            <a:gdLst>
              <a:gd name="textAreaLeft" fmla="*/ 0 w 3384360"/>
              <a:gd name="textAreaRight" fmla="*/ 3384720 w 338436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1511" y="12728"/>
                </a:moveTo>
                <a:arcTo wR="-9487" hR="-9487" stAng="10096533" swAng="-10504807"/>
                <a:lnTo>
                  <a:pt x="76" y="12080"/>
                </a:lnTo>
                <a:arcTo wR="10800" hR="10800" stAng="10391726" swAng="10504807"/>
                <a:lnTo>
                  <a:pt x="24018" y="8057"/>
                </a:lnTo>
                <a:lnTo>
                  <a:pt x="21414" y="12025"/>
                </a:lnTo>
                <a:lnTo>
                  <a:pt x="17445" y="9421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7182600">
            <a:off x="5941080" y="4364640"/>
            <a:ext cx="3384360" cy="649440"/>
          </a:xfrm>
          <a:custGeom>
            <a:avLst/>
            <a:gdLst>
              <a:gd name="textAreaLeft" fmla="*/ 0 w 3384360"/>
              <a:gd name="textAreaRight" fmla="*/ 3384720 w 338436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1418" y="10774"/>
                </a:moveTo>
                <a:arcTo wR="-9382" hR="-9382" stAng="-10790474" swAng="-6803153"/>
                <a:lnTo>
                  <a:pt x="6541" y="875"/>
                </a:lnTo>
                <a:arcTo wR="10800" hR="10800" stAng="-6793627" swAng="6803153"/>
                <a:lnTo>
                  <a:pt x="24300" y="10837"/>
                </a:lnTo>
                <a:lnTo>
                  <a:pt x="20882" y="14237"/>
                </a:lnTo>
                <a:lnTo>
                  <a:pt x="17482" y="1081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3507200">
            <a:off x="827280" y="5083560"/>
            <a:ext cx="3384720" cy="649080"/>
          </a:xfrm>
          <a:custGeom>
            <a:avLst/>
            <a:gdLst>
              <a:gd name="textAreaLeft" fmla="*/ 0 w 3384720"/>
              <a:gd name="textAreaRight" fmla="*/ 3385080 w 3384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1418" y="10774"/>
                </a:moveTo>
                <a:arcTo wR="-9382" hR="-9382" stAng="-10790474" swAng="-6803153"/>
                <a:lnTo>
                  <a:pt x="6541" y="875"/>
                </a:lnTo>
                <a:arcTo wR="10800" hR="10800" stAng="-6793627" swAng="6803153"/>
                <a:lnTo>
                  <a:pt x="24300" y="10837"/>
                </a:lnTo>
                <a:lnTo>
                  <a:pt x="20882" y="14237"/>
                </a:lnTo>
                <a:lnTo>
                  <a:pt x="17482" y="1081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140360" y="2924280"/>
            <a:ext cx="1512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05:21:16Z</dcterms:created>
  <dc:creator>Fekete Zsombor</dc:creator>
  <dc:description/>
  <dc:language>en-US</dc:language>
  <cp:lastModifiedBy>Fekete Zsombor</cp:lastModifiedBy>
  <dcterms:modified xsi:type="dcterms:W3CDTF">2004-10-26T10:27:43Z</dcterms:modified>
  <cp:revision>33</cp:revision>
  <dc:subject/>
  <dc:title>A videojáték-műfajok ergonómiai és funkcionális megközelítésmódjai</dc:title>
</cp:coreProperties>
</file>